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778-A137-4AEC-B667-B69D3BC3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5BE-8BCE-4E88-BDA8-EC70966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318-7638-4A4F-AEDE-B18C881C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71D-ECA8-4201-9CAA-A23B9C2E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6069-8D8D-4CCD-99A9-B608393E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524-CD63-432B-9174-D2870D8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D21E-1B52-435B-9D24-0A41D7BF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6DB-2C6E-4DE9-959B-8BCD5CC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6607-8FDB-49E4-9391-0D7633A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A15C-8719-4866-8209-1296FA7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3845-24FB-4FFF-8400-93134A3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189-1CDD-4E0B-8FB8-A110168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EA2D-E3E0-48BA-99B9-BC216758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8E3-AC30-4F4D-A574-DF4C505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7B47-AF24-4180-B896-C44F6FB2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0388-BD54-4A52-A01B-4DF864A8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294D-0635-4E9A-849A-C76ECD40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5BC-30DD-4782-BD92-C61C72E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6C4-4154-4D64-9996-5EE03EC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504-F9F7-4158-B6A5-00DCCE7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7D0-7EBE-49F8-94ED-DE23B064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3F9-3A89-498A-BBD8-CE690E7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50A-9AE6-4963-9D8A-718568B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477-D1AE-4269-8C34-DAF35D9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238-AB0A-4DFC-878E-3AD4EAFDD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A1B-710B-412E-92C7-63C4007F4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23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The Final Project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752480"/>
            <a:ext cx="7696080" cy="475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one of the following and wr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flection about how you can apply what you’ve learn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articles we haven’t read from the Wikispace home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s and quizzes on Co-teaching Models from Session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 in the Motivation Resource Packet from Session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hecklist for Final Proj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the checklist for your final projec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need to post the following pieces on your Session 9 Wikispace p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less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 “Co-Teaching Planning Form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accommodated activity or assess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w to Add File: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3772080" cy="47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)  Click the white “Edit This Page” box at the top of the pag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)  Click the icon called “File” that has a green picture next to i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)  Click the gray box on the right side labeled “+ Upload Files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)  Choose the file and click “Open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)  Give it a minute to load.  Your file should appear in the white list on the left sid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)  Double click on the file you want to ad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7)  Drag the gray box with your file name to the place you want the file on your pag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)  Click the gray “Save” button in the upper right corner.  You should be all set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ractice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practice adding a file to the test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Closure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798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 on the follow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about a lesson you’re teaching tomorrow.  What could you apply to that lesson that you’ve learned from this cla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09:17Z</dcterms:created>
  <dc:creator>fcps</dc:creator>
  <dc:description/>
  <dc:language>en-US</dc:language>
  <cp:lastModifiedBy>fcps</cp:lastModifiedBy>
  <dcterms:modified xsi:type="dcterms:W3CDTF">2011-05-09T16:03:21Z</dcterms:modified>
  <cp:revision>7</cp:revision>
  <dc:subject/>
  <dc:title>The Final Project</dc:title>
</cp:coreProperties>
</file>